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A4C-21CD-4CD1-8ED6-947BEEC1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1FF-1E08-4024-BC6E-1ABA1266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BB5-D298-4C13-BCDF-125424B2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99D-BE16-4244-82BF-CB333726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2B3-AA39-4B71-B2DD-7F92FBC8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FFD-9682-47D3-BB37-68BEA444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80C-057E-4012-83C3-6938548B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CB5-6951-4FDA-8EC5-773E2FA9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7C7-B1D9-4012-A2AF-1E02DF2E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FC9-DEB3-4152-A9C0-803FACA4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57F-7347-4716-AF73-8A496963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E05-0343-4310-8EC3-75A7F30B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2AEB-6B2A-4669-861E-CCF7CE4A6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cess-Independent FPGA Interconnect in Py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eph F. R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rocess-Independent FPGA Interconnect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PyCel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lean code to showcase PyC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ed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Cell is quite good but handles objects in a weird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OO structure is destroyed (flattened, burned, etc) after object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most out of PyCell, I set to fix th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nce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ly duplicates DloGen procedure, saving inter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vides method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track of and auto-completing routing l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ymmetrical abu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e Transi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the MyTransistorUnit in the tutorial, but provides many handy access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instead of, to get a transistor object’s drain rectang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: tran.getComp(-3).getRect1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ran.dr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T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C independent, but sti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gon-pu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the concept of “lanes” to which to tie to the Q or Q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internally manipulated after creation, e.g. adding spa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soft-tiled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oretically) Bitcell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polygon-pushed to achieve a simpler tiling (wasted too much time on thi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D, VSS, BL, and WL are auto-genera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Cell extension works as hop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Independent layout is quite easy, although polygon-pushing is still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out mostly complete, need to finish debugging lane anchoring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6:37:44Z</dcterms:created>
  <dc:creator>Joseph F. Ryan</dc:creator>
  <dc:description/>
  <dc:language>en-US</dc:language>
  <cp:lastModifiedBy>Joseph F. Ryan</cp:lastModifiedBy>
  <dcterms:modified xsi:type="dcterms:W3CDTF">2010-05-07T18:08:39Z</dcterms:modified>
  <cp:revision>10</cp:revision>
  <dc:subject/>
  <dc:title>A Process-Independent FPGA Interconnect in PyCell</dc:title>
</cp:coreProperties>
</file>